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358-1950-4BFE-9FE1-259EBD04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18C-82FB-44BD-A3D3-A145C9CB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593-44F7-46EC-9F4D-541BACB1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2C6-292F-48F6-A6B9-6AB314CC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8BD-B04E-4689-BA53-31C06354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7CC-8C10-412E-8F12-836F9FE5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E1C-9879-4C6C-938A-45D4387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736-8AAD-4751-A425-BF92A226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9A5-506B-43E0-BABD-BBA0DF4A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AED-F88D-4534-9CC4-C0CA0DD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6E8-E62E-4572-A51A-AA7681D0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CF6-147F-40E0-8E0B-C052417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752E-976F-4C0B-809D-6334CCE67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-8280"/>
            <a:ext cx="8858160" cy="79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конкурс профессионального мастерства педагогов «Мой лучший сценар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ИКЯН Р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У СОШ № 87 г. 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С.В.Чакр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dmin\Downloads\hello_html_m55ff41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vishivashka.ru/wp-content/uploads/ladoshek-1-800x5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C:\Users\admin\Desktop\конкурс беларусь\флаг россии.jpg"/>
          <p:cNvPicPr/>
          <p:nvPr/>
        </p:nvPicPr>
        <p:blipFill>
          <a:blip r:embed="rId1"/>
          <a:stretch/>
        </p:blipFill>
        <p:spPr>
          <a:xfrm>
            <a:off x="0" y="0"/>
            <a:ext cx="8661240" cy="5857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220840" y="4857840"/>
            <a:ext cx="29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ФЛАГ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C:\Users\admin\Desktop\конкурс беларусь\флаг белар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790640" y="54291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ФЛАГ БЕЛА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C:\Users\admin\Desktop\конкурс беларусь\герб россии.gif"/>
          <p:cNvPicPr/>
          <p:nvPr/>
        </p:nvPicPr>
        <p:blipFill>
          <a:blip r:embed="rId1"/>
          <a:stretch/>
        </p:blipFill>
        <p:spPr>
          <a:xfrm>
            <a:off x="0" y="0"/>
            <a:ext cx="5357880" cy="68230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6304320" y="1643040"/>
            <a:ext cx="213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ГЕ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C:\Users\admin\Desktop\конкурс беларусь\герб бел.jpg"/>
          <p:cNvPicPr/>
          <p:nvPr/>
        </p:nvPicPr>
        <p:blipFill>
          <a:blip r:embed="rId1"/>
          <a:stretch/>
        </p:blipFill>
        <p:spPr>
          <a:xfrm>
            <a:off x="0" y="0"/>
            <a:ext cx="6643800" cy="6550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500880" y="1857240"/>
            <a:ext cx="34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Р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БЕЛА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5" descr="C:\Users\admin\Desktop\конкурс беларусь\русск костюм.jpg"/>
          <p:cNvPicPr/>
          <p:nvPr/>
        </p:nvPicPr>
        <p:blipFill>
          <a:blip r:embed="rId1"/>
          <a:stretch/>
        </p:blipFill>
        <p:spPr>
          <a:xfrm>
            <a:off x="0" y="0"/>
            <a:ext cx="4786200" cy="4500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85840" y="5357880"/>
            <a:ext cx="76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НАЦИОНАЛЬНЫЙ КОСТЮМ РОССИ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s://kibet-shop.ru/upload/iblock/b3b/russkiy_narodnyy_kostyum_vasilka_ksy_1018755.jpg"/>
          <p:cNvPicPr/>
          <p:nvPr/>
        </p:nvPicPr>
        <p:blipFill>
          <a:blip r:embed="rId2"/>
          <a:stretch/>
        </p:blipFill>
        <p:spPr>
          <a:xfrm>
            <a:off x="3214800" y="0"/>
            <a:ext cx="3335400" cy="500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avatars.mds.yandex.net/get-marketpic/217087/market_JD-3LM_4oQPcf18EWEYYXA/orig"/>
          <p:cNvPicPr/>
          <p:nvPr/>
        </p:nvPicPr>
        <p:blipFill>
          <a:blip r:embed="rId3"/>
          <a:stretch/>
        </p:blipFill>
        <p:spPr>
          <a:xfrm>
            <a:off x="5786280" y="500040"/>
            <a:ext cx="31435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C:\Users\admin\Desktop\конкурс беларусь\беларус костюм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57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horovod-shop.ru/files/catalog/545/gallery/big/kostyum-belorusskij-mod-2_1479390340.jpg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5857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4643280" y="621504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НАЦИОНАЛЬНЫЙ КОСТЮМ БЕЛАР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i.artfile.me/wallpaper/01-03-2010/1920x1080/eda-pelmeni-manty-vareniki-pomidory-toma-344465.jpg"/>
          <p:cNvPicPr/>
          <p:nvPr/>
        </p:nvPicPr>
        <p:blipFill>
          <a:blip r:embed="rId1"/>
          <a:stretch/>
        </p:blipFill>
        <p:spPr>
          <a:xfrm>
            <a:off x="857160" y="285840"/>
            <a:ext cx="7286760" cy="386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012840" y="485784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УССКИЕ ПЕЛЬ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rerecept.ru/wp-content/uploads/2018/06/recept-pelmeney-po-belorussky-1024x819.jpg"/>
          <p:cNvPicPr/>
          <p:nvPr/>
        </p:nvPicPr>
        <p:blipFill>
          <a:blip r:embed="rId1"/>
          <a:stretch/>
        </p:blipFill>
        <p:spPr>
          <a:xfrm>
            <a:off x="1214280" y="41400"/>
            <a:ext cx="6715440" cy="5371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872440" y="600084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БЕЛАРУСКИЕ ПЕЛЬ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7T11:29:16Z</dcterms:created>
  <dc:creator>admin</dc:creator>
  <dc:description/>
  <dc:language>en-US</dc:language>
  <cp:lastModifiedBy>admin</cp:lastModifiedBy>
  <dcterms:modified xsi:type="dcterms:W3CDTF">2021-02-03T18:05:41Z</dcterms:modified>
  <cp:revision>12</cp:revision>
  <dc:subject/>
  <dc:title>Слайд 1</dc:title>
</cp:coreProperties>
</file>